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4E3F-AFDA-4957-A891-8EE99052D1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4D51EE-28A1-451F-8F64-16F7C8541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522-1CDD-436A-AFA1-073E975D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4B9-8B8B-4C70-BEAC-43000B3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5CE-0875-4FFD-BC26-E63BC82C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31C-9EB7-440F-9A35-355CDACB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0AF7-1774-410B-BACA-9F99AA57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42A-F3BA-4112-B973-BDD60862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28EB-88C4-4D19-BBA1-60A5A5E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76AF-2B0F-4E83-9C2F-636C7D2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E55F-4E26-4D8C-A851-4962437C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9028-BC04-42EC-B640-F13DDB08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2983-E6B6-49BE-8EDE-4F52286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802-A798-4801-9F7F-3BD2672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CCF1-6684-4997-9B8B-64A1592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2F8-08A2-48EE-B45D-9B572E5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BAE-53F1-44C9-864A-48CF4CBD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080C-4F1B-458C-92CB-B7967D95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03C9-C57E-4C0C-9791-DC2387B7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2F04-0169-4134-8A49-84BF2B0A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E279-259D-41B3-98C4-B651D5FD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37A6-A2E0-47B5-9B97-FA31790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68F4-DFB0-4625-AF6C-D59A348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886B-04DE-4F19-BA90-8D518C5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DA4-F1E0-4EC4-95AA-884A1F8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7920-2444-4A42-A0FF-51C05C2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BEA2-B0A8-4BF3-B956-F258B6B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DD99-77D2-4A89-B8FD-50DF3D5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FB78-82F9-4565-AE23-50B68B3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8A3C-EF03-4A6C-87B1-BD985FE3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6090-FCBE-4842-A915-7F8C0D05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E9C6-9641-4757-95D1-F8910891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930B-EBEC-4FCB-A966-600AEFD6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D9F7-E754-4C6E-8D31-4870F9A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5C59-BFD1-496E-A8B1-E2972003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E38-96CA-4273-B4F5-67823D9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4EA8-9BD6-4E97-8C38-EE106EE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FD0C-DC4E-4B23-9F93-EAB33E3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718D-057D-4A84-9A3E-B81E2C99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2BBB-A5B4-4BF1-8449-B678413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5D28-BD3F-4321-B8D1-848DD70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EBF8-07B9-48FC-8A4E-56F17DB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4E9F-85FF-47F4-A60D-0B07D25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2B44-498E-4685-87D7-48E2C201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CDF9C-710B-4118-8B2B-0CA48118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D8F-1353-4136-B9BD-330E138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66D-78B3-4219-BE22-21B0C926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266-05D4-41F6-9741-016F9E0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D69-CAED-4F7D-B50D-A8DD3D8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6EA-F72C-450C-B102-14A68A7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B31-BDB3-4A39-8F6C-CE568B846F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987E-34DB-4098-B672-3730B0D3E7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47C-4733-408A-AA61-F6DAE47841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779B-5634-4DEE-88BB-BE0F447EB8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2"/>
          <a:stretch/>
        </p:blipFill>
        <p:spPr>
          <a:xfrm>
            <a:off x="304920" y="1805040"/>
            <a:ext cx="8789760" cy="505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H:\...Эсток-Консалтинг\НАША ФИРМА\Логотипы, визитки и фотографии\ESTOK логотип.jpg"/>
          <p:cNvPicPr/>
          <p:nvPr/>
        </p:nvPicPr>
        <p:blipFill>
          <a:blip r:embed="rId3"/>
          <a:stretch/>
        </p:blipFill>
        <p:spPr>
          <a:xfrm>
            <a:off x="4284720" y="476280"/>
            <a:ext cx="44640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 ОБЯЗАТЕЛЬСТВЕННЫХ ПРАВООТНОШЕНИЯХ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438120" y="1901880"/>
            <a:ext cx="8272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 ОСПАРИВАНИИ СДЕЛО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2" descr=""/>
          <p:cNvPicPr/>
          <p:nvPr/>
        </p:nvPicPr>
        <p:blipFill>
          <a:blip r:embed="rId1"/>
          <a:stretch/>
        </p:blipFill>
        <p:spPr>
          <a:xfrm>
            <a:off x="438120" y="1163520"/>
            <a:ext cx="82724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 КОРПОРАТИВНЫХ ПРАВООТНОШЕНИЯХ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438120" y="1158840"/>
            <a:ext cx="82724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t1.pfst.net/2010.03/8490121364588b8a7374e16826672a20d1d800d5c_b.jpg"/>
          <p:cNvPicPr/>
          <p:nvPr/>
        </p:nvPicPr>
        <p:blipFill>
          <a:blip r:embed="rId1"/>
          <a:stretch/>
        </p:blipFill>
        <p:spPr>
          <a:xfrm>
            <a:off x="5580000" y="428148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ОБРОСОВЕСТНОСТЬ ПРИ ИСПОЛНЕНИИ ДОГО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сторона по договору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исполнила догово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одностороннем порядке только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спустя длительное время без каких-либо разумных причин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этого, в то время как другая сторона имела основания считать эту сделку прекратившейся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 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суд може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знать недействительным не сам договор, а действия по его исполнени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4" descr=""/>
          <p:cNvPicPr/>
          <p:nvPr/>
        </p:nvPicPr>
        <p:blipFill>
          <a:blip r:embed="rId2"/>
          <a:stretch/>
        </p:blipFill>
        <p:spPr>
          <a:xfrm>
            <a:off x="603360" y="1938240"/>
            <a:ext cx="7937280" cy="4664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:\...Эсток-Консалтинг\НАША ФИРМА\Логотипы, визитки и фотографии\ESTOK логотип.jpg"/>
          <p:cNvPicPr/>
          <p:nvPr/>
        </p:nvPicPr>
        <p:blipFill>
          <a:blip r:embed="rId3"/>
          <a:stretch/>
        </p:blipFill>
        <p:spPr>
          <a:xfrm>
            <a:off x="1979640" y="512640"/>
            <a:ext cx="5184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КРЕПЛЕНИЕ ДОБРОСОВЕСТНОСТИ В КАЧЕСТВЕ ПРИНЦИПА ПРАВА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ст. 1 ГК РФ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50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При установлении, осуществлении и защите гражданских прав и при исполнении гражданских обязанностей участники гражданских правоотношений должны действовать добросовест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Никто не вправе извлекать преимущество из своего незаконного или недобросовестного пове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s://encrypted-tbn2.gstatic.com/images?q=tbn:ANd9GcQAgs7MTfUydMezDhNsThRqRthXDf_kezD_aanpAKniFTCNTOcZ"/>
          <p:cNvPicPr/>
          <p:nvPr/>
        </p:nvPicPr>
        <p:blipFill>
          <a:blip r:embed="rId1"/>
          <a:stretch/>
        </p:blipFill>
        <p:spPr>
          <a:xfrm>
            <a:off x="7956720" y="1341360"/>
            <a:ext cx="1062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НЯТИЕ ДОБРОСОВЕСТ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Объект 3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3264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187200" y="4164120"/>
            <a:ext cx="1749600" cy="1677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622160" cy="119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s://encrypted-tbn1.gstatic.com/images?q=tbn:ANd9GcSfm13lbizUv92Vddg-RcUajJw_gvfU-0rFS5cWQQfG3A6V2nSx"/>
          <p:cNvPicPr/>
          <p:nvPr/>
        </p:nvPicPr>
        <p:blipFill>
          <a:blip r:embed="rId3"/>
          <a:stretch/>
        </p:blipFill>
        <p:spPr>
          <a:xfrm>
            <a:off x="7308720" y="3357720"/>
            <a:ext cx="1524240" cy="161424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6" descr=""/>
          <p:cNvPicPr/>
          <p:nvPr/>
        </p:nvPicPr>
        <p:blipFill>
          <a:blip r:embed="rId4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УЛА ДОБРОСОВЕСТ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https://encrypted-tbn0.gstatic.com/images?q=tbn:ANd9GcRQ6h2fa2u5A7ziqdP_vqO8QLjN7VSmUw5QIEdaiRLHMVzi_PQm"/>
          <p:cNvPicPr/>
          <p:nvPr/>
        </p:nvPicPr>
        <p:blipFill>
          <a:blip r:embed="rId1"/>
          <a:stretch/>
        </p:blipFill>
        <p:spPr>
          <a:xfrm>
            <a:off x="3851280" y="184464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3" descr=""/>
          <p:cNvPicPr/>
          <p:nvPr/>
        </p:nvPicPr>
        <p:blipFill>
          <a:blip r:embed="rId2"/>
          <a:stretch/>
        </p:blipFill>
        <p:spPr>
          <a:xfrm>
            <a:off x="444600" y="1925640"/>
            <a:ext cx="8254800" cy="440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СООТНОШЕНИЕ ДОБРОСОВЕСТНОСТИ И ЗЛОУПОТРЕБЛЕНИЯ ПРАВ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ЛОУПОТРЕБЛЕНИЕ ПРАВОМ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ст. 10 ГК РФ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79640" y="1915920"/>
            <a:ext cx="6718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допускаются действия граждан и юридических лиц, осуществляемые исключительно с намерением причинить вред другому лицу, а также злоупотребление право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ых формах (?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допускаются осуществление гражданских прав исключительно с намерением причинить вред другому лицу, действия в обход закона с противоправной целью, а также иное заведомо недобросовестное осуществление гражданских прав (злоупотребление право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" descr="C:\Users\1\Desktop\Безымянный.png"/>
          <p:cNvPicPr/>
          <p:nvPr/>
        </p:nvPicPr>
        <p:blipFill>
          <a:blip r:embed="rId1"/>
          <a:stretch/>
        </p:blipFill>
        <p:spPr>
          <a:xfrm>
            <a:off x="395280" y="1989000"/>
            <a:ext cx="1225440" cy="136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1\Desktop\Новое дерево.png"/>
          <p:cNvPicPr/>
          <p:nvPr/>
        </p:nvPicPr>
        <p:blipFill>
          <a:blip r:embed="rId2"/>
          <a:stretch/>
        </p:blipFill>
        <p:spPr>
          <a:xfrm>
            <a:off x="379440" y="4233960"/>
            <a:ext cx="1227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Ы ЗЛОУПОТРЕБЛ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Объект 2" descr=""/>
          <p:cNvPicPr/>
          <p:nvPr/>
        </p:nvPicPr>
        <p:blipFill>
          <a:blip r:embed="rId1"/>
          <a:stretch/>
        </p:blipFill>
        <p:spPr>
          <a:xfrm>
            <a:off x="438120" y="1920960"/>
            <a:ext cx="8267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СЛЕДСТВИЯ ЗЛОУПОТРЕБЛЕНИЯ ПРАВОМ (ст. 10 ГК РФ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979640" y="1915920"/>
            <a:ext cx="6718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тказ в защите права (н., отказ в иск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тказ в защите права (н., отказ в иск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Взыскание убытков, если злоупотребление правом повлекло нарушение пра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Иные меры (н., отказ в применении сроков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1" descr="C:\Users\1\Desktop\Безымянный.png"/>
          <p:cNvPicPr/>
          <p:nvPr/>
        </p:nvPicPr>
        <p:blipFill>
          <a:blip r:embed="rId1"/>
          <a:stretch/>
        </p:blipFill>
        <p:spPr>
          <a:xfrm>
            <a:off x="395280" y="1989000"/>
            <a:ext cx="1225440" cy="13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1\Desktop\Новое дерево.png"/>
          <p:cNvPicPr/>
          <p:nvPr/>
        </p:nvPicPr>
        <p:blipFill>
          <a:blip r:embed="rId2"/>
          <a:stretch/>
        </p:blipFill>
        <p:spPr>
          <a:xfrm>
            <a:off x="379440" y="3716280"/>
            <a:ext cx="12272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http://ur-problem.net/wp-content/uploads/2012/08/ContractAdministration2.jpg"/>
          <p:cNvPicPr/>
          <p:nvPr/>
        </p:nvPicPr>
        <p:blipFill>
          <a:blip r:embed="rId1"/>
          <a:stretch/>
        </p:blipFill>
        <p:spPr>
          <a:xfrm>
            <a:off x="6372360" y="4586400"/>
            <a:ext cx="1649160" cy="164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http://st03.kakprosto.ru/images/article/2011/9/24/1_525535b322d46525535b322d85.JPG"/>
          <p:cNvPicPr/>
          <p:nvPr/>
        </p:nvPicPr>
        <p:blipFill>
          <a:blip r:embed="rId2"/>
          <a:stretch/>
        </p:blipFill>
        <p:spPr>
          <a:xfrm>
            <a:off x="1258920" y="3279600"/>
            <a:ext cx="1744560" cy="1306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1369800" cy="1535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СФЕРЫ ПРИМЕНЕНИЯ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ЛОЖЕНИЙ О ДОБРОСОВЕСТНОСТИ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Объект 2" descr=""/>
          <p:cNvPicPr/>
          <p:nvPr/>
        </p:nvPicPr>
        <p:blipFill>
          <a:blip r:embed="rId4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9:12:24Z</dcterms:created>
  <dc:creator>dns</dc:creator>
  <dc:description/>
  <dc:language>en-US</dc:language>
  <cp:lastModifiedBy>dns</cp:lastModifiedBy>
  <dcterms:modified xsi:type="dcterms:W3CDTF">2015-04-21T03:28:45Z</dcterms:modified>
  <cp:revision>723</cp:revision>
  <dc:subject/>
  <dc:title>Endless Tides</dc:title>
</cp:coreProperties>
</file>