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28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E414-4913-4997-9BFF-4E78B9142D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0555-6812-4689-B40E-6CC8C9E51D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C6DB-0078-469B-9A19-CB8E7A10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8D19-8E30-4264-8415-135DF6AF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F5B7-26ED-41FA-8E1D-FA98B20B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F5B-A8DF-4630-8B1B-D3BF6CD8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DEEA-7D72-4E19-959A-92BB6227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685C-5046-49AB-A87E-58A4B130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2337-A967-41D4-886D-6F3E7BD7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5C0A-E076-40B6-B0E6-0C423CA5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D035-ADED-4A07-8012-2EC69D59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FA00-226E-4848-922A-B4AF0DE9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DD43-BECD-4BC4-AE14-BDDB9150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AD8-D821-4B9C-8AED-B9ACD9B6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A215-BD9E-49FD-BFBC-CC1BF7A7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2F34-AB66-4DBD-9EAB-88779FF5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CBA7-B143-4D60-A86C-5F05E69C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0F7E-98C5-405E-852F-8493C537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C8B2-BE69-43FE-AF6F-C34D77D9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7964C-6CFB-44B5-B555-E3154A7A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FBAC4-0643-4347-973D-3A38EC12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6480E-8422-489C-9DFD-48E728F8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0AC25-6F43-49DF-BD22-63455B27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D03E6-3DB1-45A7-ACE3-C944179F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A8E-6885-4372-971A-EFCC3F86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78E29-B9D3-471B-86D2-0DC96AAF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CDA38-7304-4FD5-83F9-998A2E8D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B703B-6EE2-433A-A59C-841C1BD2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E1AA6-A8E8-4424-A53D-1A403E76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78A75-67CC-4230-A6D8-3E0A8D83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2F887-5974-4545-B61A-9B3A9DE6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ADE07-CA48-4ABE-AA9B-80E5390B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E37E2-CD4D-4E5B-8D86-5E3F51BE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34A43-7943-4883-9F8A-027665A7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7B6D6-E1A7-4193-9588-30233C7E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27F-0B3A-4E2F-B924-FC713CBC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C24CD-776D-4D1E-9408-91C5EE96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D9960-E379-4DD6-A5C6-530D66B5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2AB01-6858-4304-80F4-0D6DBE0D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13B81-14A5-4604-9F71-C7F1BDB3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0EB8D-01D2-42E4-959E-5ED10659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DFA1E-EFEF-4771-999C-AE3CD98F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CCA1A-918F-4F65-AF09-275853E0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99875-F6BF-428A-9636-71A87F4F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57550-B2E4-4767-923E-9F89FDDA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109A-3B08-457A-886E-0BCCC792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4D3B-6C37-4326-B09C-BBA10A2D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0D8-4120-4014-868C-A652008D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873-6765-48A3-8E7A-B3BBA1E1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709-5524-4E21-84A9-89E02300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055D-E131-42B2-811B-D0457FE1F65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A522-5E3B-481B-B03F-74374902AB3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1F1C-6533-45BC-9B14-BAE109AE813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267A-48A5-46CE-912F-73737C0F478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3" descr=""/>
          <p:cNvPicPr/>
          <p:nvPr/>
        </p:nvPicPr>
        <p:blipFill>
          <a:blip r:embed="rId2"/>
          <a:stretch/>
        </p:blipFill>
        <p:spPr>
          <a:xfrm>
            <a:off x="463680" y="1779480"/>
            <a:ext cx="8143920" cy="4176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H:\...Эсток-Консалтинг\НАША ФИРМА\Логотипы, визитки и фотографии\ESTOK логотип.jpg"/>
          <p:cNvPicPr/>
          <p:nvPr/>
        </p:nvPicPr>
        <p:blipFill>
          <a:blip r:embed="rId3"/>
          <a:stretch/>
        </p:blipFill>
        <p:spPr>
          <a:xfrm>
            <a:off x="4716360" y="549360"/>
            <a:ext cx="4248360" cy="1301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НТПП. Логотип"/>
          <p:cNvPicPr/>
          <p:nvPr/>
        </p:nvPicPr>
        <p:blipFill>
          <a:blip r:embed="rId4"/>
          <a:stretch/>
        </p:blipFill>
        <p:spPr>
          <a:xfrm>
            <a:off x="1042920" y="620640"/>
            <a:ext cx="14446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Новые договорные конструкци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Содержимое 3" descr=""/>
          <p:cNvPicPr/>
          <p:nvPr/>
        </p:nvPicPr>
        <p:blipFill>
          <a:blip r:embed="rId1"/>
          <a:stretch/>
        </p:blipFill>
        <p:spPr>
          <a:xfrm>
            <a:off x="390600" y="1481040"/>
            <a:ext cx="837540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Новые договорные конструкци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Содержимое 3" descr=""/>
          <p:cNvPicPr/>
          <p:nvPr/>
        </p:nvPicPr>
        <p:blipFill>
          <a:blip r:embed="rId1"/>
          <a:stretch/>
        </p:blipFill>
        <p:spPr>
          <a:xfrm>
            <a:off x="390600" y="1481040"/>
            <a:ext cx="837540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Новые договорные конструкци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Содержимое 3" descr=""/>
          <p:cNvPicPr/>
          <p:nvPr/>
        </p:nvPicPr>
        <p:blipFill>
          <a:blip r:embed="rId1"/>
          <a:stretch/>
        </p:blipFill>
        <p:spPr>
          <a:xfrm>
            <a:off x="390600" y="1481040"/>
            <a:ext cx="837540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Расторжение или отказ от договора?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(ст. 450 ГК РФ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Содержимое 3" descr=""/>
          <p:cNvPicPr/>
          <p:nvPr/>
        </p:nvPicPr>
        <p:blipFill>
          <a:blip r:embed="rId1"/>
          <a:stretch/>
        </p:blipFill>
        <p:spPr>
          <a:xfrm>
            <a:off x="384120" y="1809720"/>
            <a:ext cx="837576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Правила отказа от договора</a:t>
            </a:r>
            <a:br>
              <a:rPr sz="4400"/>
            </a:b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(ст. 450.1 ГК РФ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Содержимое 3" descr=""/>
          <p:cNvPicPr/>
          <p:nvPr/>
        </p:nvPicPr>
        <p:blipFill>
          <a:blip r:embed="rId1"/>
          <a:stretch/>
        </p:blipFill>
        <p:spPr>
          <a:xfrm>
            <a:off x="384120" y="1305000"/>
            <a:ext cx="86076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Плата за односторонний отказ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от договора</a:t>
            </a:r>
            <a:br>
              <a:rPr sz="4400"/>
            </a:b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(п. 3 ст. 310, ст. 450.1 ГК РФ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76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первые на законодательном уровне разрешено </a:t>
            </a: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обуславливать односторонний отказ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 исполнения обязательства (договора) </a:t>
            </a: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выплатой контрагенту определенной денежной сум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нако данное положение применимо к договорам между предпринимателями!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4" descr=""/>
          <p:cNvPicPr/>
          <p:nvPr/>
        </p:nvPicPr>
        <p:blipFill>
          <a:blip r:embed="rId2"/>
          <a:stretch/>
        </p:blipFill>
        <p:spPr>
          <a:xfrm>
            <a:off x="603360" y="1938240"/>
            <a:ext cx="7937280" cy="4664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H:\...Эсток-Консалтинг\НАША ФИРМА\Логотипы, визитки и фотографии\ESTOK логотип.jpg"/>
          <p:cNvPicPr/>
          <p:nvPr/>
        </p:nvPicPr>
        <p:blipFill>
          <a:blip r:embed="rId3"/>
          <a:stretch/>
        </p:blipFill>
        <p:spPr>
          <a:xfrm>
            <a:off x="1979640" y="512640"/>
            <a:ext cx="518472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http://cs624422.vk.me/v624422849/22a6d/3ZPpG7d68yo.jpg"/>
          <p:cNvPicPr/>
          <p:nvPr/>
        </p:nvPicPr>
        <p:blipFill>
          <a:blip r:embed="rId1"/>
          <a:stretch/>
        </p:blipFill>
        <p:spPr>
          <a:xfrm>
            <a:off x="2843280" y="4094280"/>
            <a:ext cx="2881080" cy="27637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Преддоговорный процесс</a:t>
            </a:r>
            <a:br>
              <a:rPr sz="44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т. 434.1 ГК РФ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9280" y="1628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С 1 июня 2015 года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ажданский кодекс РФ распространяет свое действие на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еддоговорные отношения сторон, определяя требования к ведению переговоров и устанавливая ответственность за недобросовестный срыв переговоров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Правила преддоговорного процесс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Содержимое 3" descr=""/>
          <p:cNvPicPr/>
          <p:nvPr/>
        </p:nvPicPr>
        <p:blipFill>
          <a:blip r:embed="rId1"/>
          <a:stretch/>
        </p:blipFill>
        <p:spPr>
          <a:xfrm>
            <a:off x="311040" y="1457280"/>
            <a:ext cx="8442360" cy="5145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http://www.2do2go.ru/uploads/full/ac4e088d03526fb59354610fc3901ba9_w960_h2048.jpg"/>
          <p:cNvPicPr/>
          <p:nvPr/>
        </p:nvPicPr>
        <p:blipFill>
          <a:blip r:embed="rId2"/>
          <a:stretch/>
        </p:blipFill>
        <p:spPr>
          <a:xfrm>
            <a:off x="7691400" y="1484280"/>
            <a:ext cx="14526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Картинки по запросу картинки переговоры"/>
          <p:cNvPicPr/>
          <p:nvPr/>
        </p:nvPicPr>
        <p:blipFill>
          <a:blip r:embed="rId1"/>
          <a:stretch/>
        </p:blipFill>
        <p:spPr>
          <a:xfrm>
            <a:off x="468360" y="5156280"/>
            <a:ext cx="2230560" cy="17017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авила преддоговорного процесс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Содержимое 3" descr=""/>
          <p:cNvPicPr/>
          <p:nvPr/>
        </p:nvPicPr>
        <p:blipFill>
          <a:blip r:embed="rId2"/>
          <a:stretch/>
        </p:blipFill>
        <p:spPr>
          <a:xfrm>
            <a:off x="311040" y="1407960"/>
            <a:ext cx="8399520" cy="5194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Картинки по запросу картинки переговоры"/>
          <p:cNvPicPr/>
          <p:nvPr/>
        </p:nvPicPr>
        <p:blipFill>
          <a:blip r:embed="rId3"/>
          <a:stretch/>
        </p:blipFill>
        <p:spPr>
          <a:xfrm>
            <a:off x="7350120" y="1413000"/>
            <a:ext cx="1793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авила преддоговорного процесс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Содержимое 3" descr=""/>
          <p:cNvPicPr/>
          <p:nvPr/>
        </p:nvPicPr>
        <p:blipFill>
          <a:blip r:embed="rId1"/>
          <a:stretch/>
        </p:blipFill>
        <p:spPr>
          <a:xfrm>
            <a:off x="311040" y="1407960"/>
            <a:ext cx="8399520" cy="5194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Картинки по запросу картинки переговоры путин обама"/>
          <p:cNvPicPr/>
          <p:nvPr/>
        </p:nvPicPr>
        <p:blipFill>
          <a:blip r:embed="rId2"/>
          <a:stretch/>
        </p:blipFill>
        <p:spPr>
          <a:xfrm>
            <a:off x="5364000" y="4724280"/>
            <a:ext cx="338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2" descr="http://img.tyt.by/n/00/10/ubytki-kredity383643296.jpg"/>
          <p:cNvPicPr/>
          <p:nvPr/>
        </p:nvPicPr>
        <p:blipFill>
          <a:blip r:embed="rId1"/>
          <a:stretch/>
        </p:blipFill>
        <p:spPr>
          <a:xfrm>
            <a:off x="179280" y="5364000"/>
            <a:ext cx="2448000" cy="1494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авила преддоговорного процесс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Содержимое 3" descr=""/>
          <p:cNvPicPr/>
          <p:nvPr/>
        </p:nvPicPr>
        <p:blipFill>
          <a:blip r:embed="rId2"/>
          <a:stretch/>
        </p:blipFill>
        <p:spPr>
          <a:xfrm>
            <a:off x="311040" y="1262160"/>
            <a:ext cx="8388360" cy="5340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Картинки по запросу картинки убытки"/>
          <p:cNvPicPr/>
          <p:nvPr/>
        </p:nvPicPr>
        <p:blipFill>
          <a:blip r:embed="rId3"/>
          <a:stretch/>
        </p:blipFill>
        <p:spPr>
          <a:xfrm>
            <a:off x="6364440" y="1125360"/>
            <a:ext cx="2779560" cy="14846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авила преддоговорного процесс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Содержимое 10" descr=""/>
          <p:cNvPicPr/>
          <p:nvPr/>
        </p:nvPicPr>
        <p:blipFill>
          <a:blip r:embed="rId1"/>
          <a:stretch/>
        </p:blipFill>
        <p:spPr>
          <a:xfrm>
            <a:off x="426960" y="1395360"/>
            <a:ext cx="82900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авила преддоговорного процесс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5 основных правил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Due Diligence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оверяются учредительные документы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оверяются полномочия директора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оверяется состав участников Юрид. лица и состав аффилированных лиц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оверяется наличие кредиторской задолженности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оизводится фактический осмотр имущества либо проверяются материальные/трудовые ресурсы для оказания услуг, выполнения работ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Новые договорные конструкци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Содержимое 3" descr=""/>
          <p:cNvPicPr/>
          <p:nvPr/>
        </p:nvPicPr>
        <p:blipFill>
          <a:blip r:embed="rId1"/>
          <a:stretch/>
        </p:blipFill>
        <p:spPr>
          <a:xfrm>
            <a:off x="384120" y="1371600"/>
            <a:ext cx="85946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9:12:24Z</dcterms:created>
  <dc:creator>dns</dc:creator>
  <dc:description/>
  <dc:language>en-US</dc:language>
  <cp:lastModifiedBy>dns</cp:lastModifiedBy>
  <dcterms:modified xsi:type="dcterms:W3CDTF">2015-04-22T19:03:35Z</dcterms:modified>
  <cp:revision>725</cp:revision>
  <dc:subject/>
  <dc:title>Endless Tides</dc:title>
</cp:coreProperties>
</file>